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4.png" ContentType="image/png"/>
  <Override PartName="/ppt/media/image27.png" ContentType="image/png"/>
  <Override PartName="/ppt/media/image25.png" ContentType="image/png"/>
  <Override PartName="/ppt/media/image22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14.jpeg" ContentType="image/jpeg"/>
  <Override PartName="/ppt/media/image24.png" ContentType="image/png"/>
  <Override PartName="/ppt/media/image1.png" ContentType="image/png"/>
  <Override PartName="/ppt/media/image23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720263" cy="648017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AutoShape 1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AutoShape 2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AutoShape 3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AutoShape 6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AutoShape 7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AutoShape 8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612360" y="754200"/>
            <a:ext cx="5559480" cy="37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2448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0" y="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3849840" y="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1"/>
          </p:nvPr>
        </p:nvSpPr>
        <p:spPr>
          <a:xfrm>
            <a:off x="384948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D1051D-67B5-4A80-8E78-48F29446B8F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4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2B6107-0843-4A09-83D8-D2E5577CBEA6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Text Box 1"/>
          <p:cNvSpPr/>
          <p:nvPr/>
        </p:nvSpPr>
        <p:spPr>
          <a:xfrm>
            <a:off x="384984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EB9D11-334D-4573-BD96-C1034844DD4C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608040" y="744480"/>
            <a:ext cx="5583240" cy="37227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612720" y="754200"/>
            <a:ext cx="5559480" cy="37065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2448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egnaposto numero diapositiva 3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2D7F52-C955-47B2-A22E-76ED2EF5DBE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4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25BF52-7298-41C3-B075-84C660C3D0DE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Text Box 1"/>
          <p:cNvSpPr/>
          <p:nvPr/>
        </p:nvSpPr>
        <p:spPr>
          <a:xfrm>
            <a:off x="384984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B33049-6621-47A3-9A44-F89BEDFF3D30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608040" y="744480"/>
            <a:ext cx="5583240" cy="37227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4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F6A698-8D1C-4925-AC5C-4C69E41700AB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Text Box 1"/>
          <p:cNvSpPr/>
          <p:nvPr/>
        </p:nvSpPr>
        <p:spPr>
          <a:xfrm>
            <a:off x="384984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2A1F93-35BF-48C8-AA4E-5198D9B72A9B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608040" y="744480"/>
            <a:ext cx="5583240" cy="37227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4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0AA326-F082-42B0-904A-2D5BEA222627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Text Box 1"/>
          <p:cNvSpPr/>
          <p:nvPr/>
        </p:nvSpPr>
        <p:spPr>
          <a:xfrm>
            <a:off x="384984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0F37A2-56EF-4C75-B450-EA52DA248EF3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608040" y="744480"/>
            <a:ext cx="558324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4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E41F30-9F28-4433-ABFC-AC1007DE5A03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Text Box 1"/>
          <p:cNvSpPr/>
          <p:nvPr/>
        </p:nvSpPr>
        <p:spPr>
          <a:xfrm>
            <a:off x="384984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1DD65F-F659-404F-B77D-65EF6A51668B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608040" y="744480"/>
            <a:ext cx="558324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8747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000" y="3479400"/>
            <a:ext cx="8747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6000" y="347940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68360" y="347940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43760" y="151632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01880" y="151632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6000" y="347940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43760" y="347940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01880" y="347940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86000" y="1516320"/>
            <a:ext cx="87476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87476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86000" y="258480"/>
            <a:ext cx="8747640" cy="50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324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86000" y="347940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68360" y="347940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000" y="3479400"/>
            <a:ext cx="8747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"/>
          <p:cNvSpPr/>
          <p:nvPr/>
        </p:nvSpPr>
        <p:spPr>
          <a:xfrm>
            <a:off x="484200" y="5900760"/>
            <a:ext cx="22557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Text Box 4"/>
          <p:cNvSpPr/>
          <p:nvPr/>
        </p:nvSpPr>
        <p:spPr>
          <a:xfrm>
            <a:off x="3324240" y="5900760"/>
            <a:ext cx="3073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" name="Immagine 6" descr=""/>
          <p:cNvPicPr/>
          <p:nvPr/>
        </p:nvPicPr>
        <p:blipFill>
          <a:blip r:embed="rId2"/>
          <a:srcRect l="26387" t="31468" r="27226" b="17688"/>
          <a:stretch/>
        </p:blipFill>
        <p:spPr>
          <a:xfrm>
            <a:off x="247680" y="5497560"/>
            <a:ext cx="539640" cy="838080"/>
          </a:xfrm>
          <a:prstGeom prst="rect">
            <a:avLst/>
          </a:prstGeom>
          <a:ln w="0">
            <a:noFill/>
          </a:ln>
        </p:spPr>
      </p:pic>
      <p:sp>
        <p:nvSpPr>
          <p:cNvPr id="3" name="CasellaDiTesto 1"/>
          <p:cNvSpPr/>
          <p:nvPr/>
        </p:nvSpPr>
        <p:spPr>
          <a:xfrm>
            <a:off x="9190080" y="6094440"/>
            <a:ext cx="51732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000" spc="-1" strike="noStrike">
                <a:solidFill>
                  <a:srgbClr val="ff0000"/>
                </a:solidFill>
                <a:latin typeface="Frutiger"/>
              </a:rPr>
              <a:t>   </a:t>
            </a:r>
            <a:fld id="{40D24726-A468-4644-9157-8C1409B9DF72}" type="slidenum">
              <a:rPr b="0" lang="it-IT" sz="1000" spc="-1" strike="noStrike">
                <a:solidFill>
                  <a:srgbClr val="ff0000"/>
                </a:solidFill>
                <a:latin typeface="Frutiger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jpeg"/><Relationship Id="rId3" Type="http://schemas.openxmlformats.org/officeDocument/2006/relationships/image" Target="../media/image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uppo 1"/>
          <p:cNvGrpSpPr/>
          <p:nvPr/>
        </p:nvGrpSpPr>
        <p:grpSpPr>
          <a:xfrm>
            <a:off x="-30240" y="-208080"/>
            <a:ext cx="9750600" cy="6472440"/>
            <a:chOff x="-30240" y="-208080"/>
            <a:chExt cx="9750600" cy="6472440"/>
          </a:xfrm>
        </p:grpSpPr>
        <p:sp>
          <p:nvSpPr>
            <p:cNvPr id="56" name="Rettangolo 1"/>
            <p:cNvSpPr/>
            <p:nvPr/>
          </p:nvSpPr>
          <p:spPr>
            <a:xfrm>
              <a:off x="-30240" y="3054240"/>
              <a:ext cx="9750600" cy="32101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7" name="Rettangolo 1"/>
            <p:cNvSpPr/>
            <p:nvPr/>
          </p:nvSpPr>
          <p:spPr>
            <a:xfrm>
              <a:off x="-17280" y="-208080"/>
              <a:ext cx="9720720" cy="3270240"/>
            </a:xfrm>
            <a:prstGeom prst="rect">
              <a:avLst/>
            </a:prstGeom>
            <a:solidFill>
              <a:srgbClr val="bfbfbf"/>
            </a:solidFill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8" name="Text Box 2"/>
          <p:cNvSpPr/>
          <p:nvPr/>
        </p:nvSpPr>
        <p:spPr>
          <a:xfrm>
            <a:off x="0" y="3286080"/>
            <a:ext cx="9540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Lato Black"/>
              </a:rPr>
              <a:t># FUORI MUSEO </a:t>
            </a:r>
            <a:r>
              <a:rPr b="0" lang="it-IT" sz="1800" spc="-1" strike="noStrike">
                <a:solidFill>
                  <a:srgbClr val="ffffff"/>
                </a:solidFill>
                <a:latin typeface="Lato Black"/>
              </a:rPr>
              <a:t>2018-2019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571680" indent="-571680"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Lato Black"/>
              </a:rPr>
              <a:t>#FUORI CASTELLO </a:t>
            </a:r>
            <a:r>
              <a:rPr b="0" lang="it-IT" sz="1800" spc="-1" strike="noStrike">
                <a:solidFill>
                  <a:srgbClr val="ffffff"/>
                </a:solidFill>
                <a:latin typeface="Lato Black"/>
              </a:rPr>
              <a:t>2019-202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571680" indent="-571680"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Lato Black"/>
              </a:rPr>
              <a:t>DAL QUARTIERE BARONA AL CASTELLO </a:t>
            </a:r>
            <a:r>
              <a:rPr b="0" lang="it-IT" sz="1800" spc="-1" strike="noStrike">
                <a:solidFill>
                  <a:srgbClr val="ffffff"/>
                </a:solidFill>
                <a:latin typeface="Lato Black"/>
              </a:rPr>
              <a:t>2022-2023-2024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59" name="Gruppo 8"/>
          <p:cNvGrpSpPr/>
          <p:nvPr/>
        </p:nvGrpSpPr>
        <p:grpSpPr>
          <a:xfrm>
            <a:off x="4129200" y="679320"/>
            <a:ext cx="1460520" cy="2606760"/>
            <a:chOff x="4129200" y="679320"/>
            <a:chExt cx="1460520" cy="2606760"/>
          </a:xfrm>
        </p:grpSpPr>
        <p:pic>
          <p:nvPicPr>
            <p:cNvPr id="60" name="Immagine 9" descr=""/>
            <p:cNvPicPr/>
            <p:nvPr/>
          </p:nvPicPr>
          <p:blipFill>
            <a:blip r:embed="rId1"/>
            <a:srcRect l="0" t="0" r="52428" b="0"/>
            <a:stretch/>
          </p:blipFill>
          <p:spPr>
            <a:xfrm>
              <a:off x="4202640" y="679320"/>
              <a:ext cx="1387080" cy="143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Immagine 10" descr=""/>
            <p:cNvPicPr/>
            <p:nvPr/>
          </p:nvPicPr>
          <p:blipFill>
            <a:blip r:embed="rId2"/>
            <a:srcRect l="50622" t="0" r="0" b="0"/>
            <a:stretch/>
          </p:blipFill>
          <p:spPr>
            <a:xfrm>
              <a:off x="4129200" y="1852200"/>
              <a:ext cx="1449720" cy="14338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Google Shape;71;p15" descr=""/>
          <p:cNvPicPr/>
          <p:nvPr/>
        </p:nvPicPr>
        <p:blipFill>
          <a:blip r:embed="rId1"/>
          <a:stretch/>
        </p:blipFill>
        <p:spPr>
          <a:xfrm>
            <a:off x="7453440" y="-7920"/>
            <a:ext cx="2000160" cy="865080"/>
          </a:xfrm>
          <a:prstGeom prst="rect">
            <a:avLst/>
          </a:prstGeom>
          <a:ln w="0">
            <a:noFill/>
          </a:ln>
        </p:spPr>
      </p:pic>
      <p:pic>
        <p:nvPicPr>
          <p:cNvPr id="63" name="Google Shape;70;p15" descr=""/>
          <p:cNvPicPr/>
          <p:nvPr/>
        </p:nvPicPr>
        <p:blipFill>
          <a:blip r:embed="rId2"/>
          <a:stretch/>
        </p:blipFill>
        <p:spPr>
          <a:xfrm>
            <a:off x="266760" y="130320"/>
            <a:ext cx="2568600" cy="588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7" descr=""/>
          <p:cNvPicPr/>
          <p:nvPr/>
        </p:nvPicPr>
        <p:blipFill>
          <a:blip r:embed="rId3"/>
          <a:stretch/>
        </p:blipFill>
        <p:spPr>
          <a:xfrm>
            <a:off x="468360" y="1944720"/>
            <a:ext cx="3789360" cy="2382840"/>
          </a:xfrm>
          <a:prstGeom prst="rect">
            <a:avLst/>
          </a:prstGeom>
          <a:ln w="0">
            <a:noFill/>
          </a:ln>
        </p:spPr>
      </p:pic>
      <p:sp>
        <p:nvSpPr>
          <p:cNvPr id="65" name="CasellaDiTesto 5"/>
          <p:cNvSpPr/>
          <p:nvPr/>
        </p:nvSpPr>
        <p:spPr>
          <a:xfrm>
            <a:off x="4859280" y="1152360"/>
            <a:ext cx="4392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Anno scolastico 2018-2019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Progetto pilota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in nuce tutte le idee sviluppate nei successivi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Progetto de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La Grande Fabbrica delle Parol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in collaborazione con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i musei del Castello Sforzesco e l‘Area Valorizzazione Patrimonio Artistico e Sicurezza della Direzione Cultura del Comune di Milano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Scuole coinvolte: 46 bambini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della scuola primaria De Nicola, 40 (ex San Paolino) Paolino, Istituto Comprensivo Sant’Ambrogio, quartiere Baron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Immagine 2" descr="Immagine che contiene interno, vestiti, arredo, sedia&#10;&#10;Descrizione generata automaticamente"/>
          <p:cNvPicPr/>
          <p:nvPr/>
        </p:nvPicPr>
        <p:blipFill>
          <a:blip r:embed="rId1"/>
          <a:stretch/>
        </p:blipFill>
        <p:spPr>
          <a:xfrm>
            <a:off x="1389240" y="2914560"/>
            <a:ext cx="3174840" cy="2381400"/>
          </a:xfrm>
          <a:prstGeom prst="rect">
            <a:avLst/>
          </a:prstGeom>
          <a:ln w="0">
            <a:noFill/>
          </a:ln>
        </p:spPr>
      </p:pic>
      <p:pic>
        <p:nvPicPr>
          <p:cNvPr id="67" name="Immagine 3" descr="FuoriMuseo_copertina sito.jpg"/>
          <p:cNvPicPr/>
          <p:nvPr/>
        </p:nvPicPr>
        <p:blipFill>
          <a:blip r:embed="rId2"/>
          <a:stretch/>
        </p:blipFill>
        <p:spPr>
          <a:xfrm>
            <a:off x="755640" y="219240"/>
            <a:ext cx="3095640" cy="2323800"/>
          </a:xfrm>
          <a:prstGeom prst="rect">
            <a:avLst/>
          </a:prstGeom>
          <a:ln w="0">
            <a:noFill/>
          </a:ln>
        </p:spPr>
      </p:pic>
      <p:pic>
        <p:nvPicPr>
          <p:cNvPr id="68" name="Immagine 5" descr="Immagine che contiene interno, muro, soffitto, lavagna&#10;&#10;Descrizione generata automaticamente"/>
          <p:cNvPicPr/>
          <p:nvPr/>
        </p:nvPicPr>
        <p:blipFill>
          <a:blip r:embed="rId3"/>
          <a:stretch/>
        </p:blipFill>
        <p:spPr>
          <a:xfrm>
            <a:off x="5276880" y="246240"/>
            <a:ext cx="3173400" cy="4230360"/>
          </a:xfrm>
          <a:prstGeom prst="rect">
            <a:avLst/>
          </a:prstGeom>
          <a:ln w="0">
            <a:noFill/>
          </a:ln>
        </p:spPr>
      </p:pic>
      <p:sp>
        <p:nvSpPr>
          <p:cNvPr id="69" name="CasellaDiTesto 6"/>
          <p:cNvSpPr/>
          <p:nvPr/>
        </p:nvSpPr>
        <p:spPr>
          <a:xfrm>
            <a:off x="52560" y="2544840"/>
            <a:ext cx="52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fase 1: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visita co-progettat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al Museo delle arti decorativ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CasellaDiTesto 8"/>
          <p:cNvSpPr/>
          <p:nvPr/>
        </p:nvSpPr>
        <p:spPr>
          <a:xfrm>
            <a:off x="787320" y="5400720"/>
            <a:ext cx="4000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fase 2: lavoro di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scrittura creativ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nelle classi condotto d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La Grande Fabbrica delle Parol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CasellaDiTesto 10"/>
          <p:cNvSpPr/>
          <p:nvPr/>
        </p:nvSpPr>
        <p:spPr>
          <a:xfrm>
            <a:off x="4794120" y="4529160"/>
            <a:ext cx="45514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fase 3: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mostra degli oggetti del quotidian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presso la scuola a cura di La Grande Fabbrica delle Parole con il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 patrocinio del Municipio 6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La mostra vine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ospitata in modo «virtuale» sul sito internet del Castello Sforzesco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1"/>
          <p:cNvSpPr/>
          <p:nvPr/>
        </p:nvSpPr>
        <p:spPr>
          <a:xfrm>
            <a:off x="546120" y="20520"/>
            <a:ext cx="845172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Lato Black"/>
              </a:rPr>
              <a:t>#FUORI CASTELL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Lato Black"/>
              </a:rPr>
              <a:t>L’arte al centro dei quartieri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Calibri"/>
              </a:rPr>
              <a:t>(anno scolastico 2019-2020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Text Box 2"/>
          <p:cNvSpPr/>
          <p:nvPr/>
        </p:nvSpPr>
        <p:spPr>
          <a:xfrm>
            <a:off x="546120" y="3244680"/>
            <a:ext cx="8994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2724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ato Medium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#FuoriCastello nasce da una collaborazione tr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Comune di Milano (Area Valorizzazion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Patrimonio Artistico e Sicurezza, ​Area Soprintendenza Castello, Musei Archeologici e Musei Storici),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Architetti senza Frontiere e La Grande Fabbrica delle Parol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, nell'ambito del programma di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rigenerazione urbana “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La città intorno” di Fondazione Cariplo.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C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oinvolti coinvolgendo 90 bambini di 4 classi di quinte (interclasse) dell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scuola primaria statale Vittorio Bottego, plesso San Mamete di via San Mamete, quartiere Adriano – Crescenzago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ato Medium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ato Medium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4" name="Google Shape;71;p15" descr=""/>
          <p:cNvPicPr/>
          <p:nvPr/>
        </p:nvPicPr>
        <p:blipFill>
          <a:blip r:embed="rId1"/>
          <a:stretch/>
        </p:blipFill>
        <p:spPr>
          <a:xfrm>
            <a:off x="722160" y="5141880"/>
            <a:ext cx="884520" cy="382680"/>
          </a:xfrm>
          <a:prstGeom prst="rect">
            <a:avLst/>
          </a:prstGeom>
          <a:ln w="0">
            <a:noFill/>
          </a:ln>
        </p:spPr>
      </p:pic>
      <p:pic>
        <p:nvPicPr>
          <p:cNvPr id="75" name="Google Shape;73;p15" descr="\\b1058777\UFF SVILUPPO MUSEI\ACCESSIBILITA\la grande fabbrica delle parole\FUORICASTELLO\LOGHI\logo ASF.jpg"/>
          <p:cNvPicPr/>
          <p:nvPr/>
        </p:nvPicPr>
        <p:blipFill>
          <a:blip r:embed="rId2"/>
          <a:stretch/>
        </p:blipFill>
        <p:spPr>
          <a:xfrm>
            <a:off x="1998720" y="5137200"/>
            <a:ext cx="1522440" cy="468360"/>
          </a:xfrm>
          <a:prstGeom prst="rect">
            <a:avLst/>
          </a:prstGeom>
          <a:ln w="0">
            <a:noFill/>
          </a:ln>
        </p:spPr>
      </p:pic>
      <p:pic>
        <p:nvPicPr>
          <p:cNvPr id="76" name="Google Shape;74;p15" descr="\\b1058777\UFF SVILUPPO MUSEI\ACCESSIBILITA\la grande fabbrica delle parole\lci-fc_logotipo_rgb_rosso-01.png"/>
          <p:cNvPicPr/>
          <p:nvPr/>
        </p:nvPicPr>
        <p:blipFill>
          <a:blip r:embed="rId3"/>
          <a:stretch/>
        </p:blipFill>
        <p:spPr>
          <a:xfrm>
            <a:off x="3673440" y="5180040"/>
            <a:ext cx="1924200" cy="382680"/>
          </a:xfrm>
          <a:prstGeom prst="rect">
            <a:avLst/>
          </a:prstGeom>
          <a:ln w="0">
            <a:noFill/>
          </a:ln>
        </p:spPr>
      </p:pic>
      <p:pic>
        <p:nvPicPr>
          <p:cNvPr id="77" name="Immagine 10" descr="C:\Users\catalogatori4\Desktop\lisa\utile\loghi\comune nero.png"/>
          <p:cNvPicPr/>
          <p:nvPr/>
        </p:nvPicPr>
        <p:blipFill>
          <a:blip r:embed="rId4"/>
          <a:srcRect l="0" t="38015" r="0" b="26650"/>
          <a:stretch/>
        </p:blipFill>
        <p:spPr>
          <a:xfrm>
            <a:off x="6097680" y="5087880"/>
            <a:ext cx="1138320" cy="568440"/>
          </a:xfrm>
          <a:prstGeom prst="rect">
            <a:avLst/>
          </a:prstGeom>
          <a:ln w="0">
            <a:noFill/>
          </a:ln>
        </p:spPr>
      </p:pic>
      <p:pic>
        <p:nvPicPr>
          <p:cNvPr id="78" name="Google Shape;84;p16" descr=""/>
          <p:cNvPicPr/>
          <p:nvPr/>
        </p:nvPicPr>
        <p:blipFill>
          <a:blip r:embed="rId5"/>
          <a:srcRect l="16444" t="0" r="17596" b="0"/>
          <a:stretch/>
        </p:blipFill>
        <p:spPr>
          <a:xfrm>
            <a:off x="722160" y="1174680"/>
            <a:ext cx="2428920" cy="1944720"/>
          </a:xfrm>
          <a:prstGeom prst="rect">
            <a:avLst/>
          </a:prstGeom>
          <a:ln w="0">
            <a:noFill/>
          </a:ln>
        </p:spPr>
      </p:pic>
      <p:pic>
        <p:nvPicPr>
          <p:cNvPr id="79" name="Google Shape;86;p16" descr=""/>
          <p:cNvPicPr/>
          <p:nvPr/>
        </p:nvPicPr>
        <p:blipFill>
          <a:blip r:embed="rId6"/>
          <a:stretch/>
        </p:blipFill>
        <p:spPr>
          <a:xfrm>
            <a:off x="5291280" y="1254240"/>
            <a:ext cx="3889080" cy="1620720"/>
          </a:xfrm>
          <a:prstGeom prst="rect">
            <a:avLst/>
          </a:prstGeom>
          <a:ln w="0">
            <a:noFill/>
          </a:ln>
        </p:spPr>
      </p:pic>
      <p:pic>
        <p:nvPicPr>
          <p:cNvPr id="80" name="Google Shape;85;p16" descr=""/>
          <p:cNvPicPr/>
          <p:nvPr/>
        </p:nvPicPr>
        <p:blipFill>
          <a:blip r:embed="rId7"/>
          <a:srcRect l="0" t="32468" r="0" b="32781"/>
          <a:stretch/>
        </p:blipFill>
        <p:spPr>
          <a:xfrm>
            <a:off x="3419640" y="1693800"/>
            <a:ext cx="1871640" cy="719280"/>
          </a:xfrm>
          <a:prstGeom prst="rect">
            <a:avLst/>
          </a:prstGeom>
          <a:ln w="0">
            <a:noFill/>
          </a:ln>
        </p:spPr>
      </p:pic>
      <p:pic>
        <p:nvPicPr>
          <p:cNvPr id="81" name="Immagine 2" descr=""/>
          <p:cNvPicPr/>
          <p:nvPr/>
        </p:nvPicPr>
        <p:blipFill>
          <a:blip r:embed="rId8"/>
          <a:stretch/>
        </p:blipFill>
        <p:spPr>
          <a:xfrm>
            <a:off x="7413480" y="5008680"/>
            <a:ext cx="1798920" cy="51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"/>
          <p:cNvSpPr/>
          <p:nvPr/>
        </p:nvSpPr>
        <p:spPr>
          <a:xfrm>
            <a:off x="900000" y="436680"/>
            <a:ext cx="514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ff0000"/>
                </a:solidFill>
                <a:latin typeface="Lato Black"/>
              </a:rPr>
              <a:t>passo 1: i bambini  vanno in museo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719280" y="4290840"/>
            <a:ext cx="416232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9520" indent="-201600">
              <a:lnSpc>
                <a:spcPct val="100000"/>
              </a:lnSpc>
              <a:buClr>
                <a:srgbClr val="000000"/>
              </a:buClr>
              <a:buFont typeface="Lato Medium"/>
              <a:buAutoNum type="arabicPeriod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lvl="1" marL="222120" algn="just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visita a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Castello Sforzesc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condotta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d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La Grande Fabbrica delle Parole, una conservatrice del Castello e una custode museal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: ai bambini viene data una visione completa delle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differenti professionalità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del museo; formazione per 50 custodi sull’accoglienza del pubblico dei bambini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22212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rcRect l="16539" t="0" r="0" b="0"/>
          <a:stretch/>
        </p:blipFill>
        <p:spPr>
          <a:xfrm>
            <a:off x="900000" y="790560"/>
            <a:ext cx="3981600" cy="3573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\\b1058777\UFF SVILUPPO MUSEI\ACCESSIBILITA\la grande fabbrica delle parole\FUORICASTELLO\20191126_foto Leonardo Rasulo\_DSC0285.JPG"/>
          <p:cNvPicPr/>
          <p:nvPr/>
        </p:nvPicPr>
        <p:blipFill>
          <a:blip r:embed="rId2"/>
          <a:stretch/>
        </p:blipFill>
        <p:spPr>
          <a:xfrm>
            <a:off x="5388120" y="741240"/>
            <a:ext cx="3949560" cy="3622680"/>
          </a:xfrm>
          <a:prstGeom prst="rect">
            <a:avLst/>
          </a:prstGeom>
          <a:ln w="0">
            <a:noFill/>
          </a:ln>
        </p:spPr>
      </p:pic>
      <p:sp>
        <p:nvSpPr>
          <p:cNvPr id="86" name="CasellaDiTesto 3"/>
          <p:cNvSpPr/>
          <p:nvPr/>
        </p:nvSpPr>
        <p:spPr>
          <a:xfrm>
            <a:off x="5356080" y="401760"/>
            <a:ext cx="485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Lato Black"/>
              </a:rPr>
              <a:t>passo 2:  il museo va dai bambini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CasellaDiTesto 5"/>
          <p:cNvSpPr/>
          <p:nvPr/>
        </p:nvSpPr>
        <p:spPr>
          <a:xfrm>
            <a:off x="5076720" y="4365720"/>
            <a:ext cx="4187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22120"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reperti originali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selezionati con co-progettazione vengono portati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a scuol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con tutte le differenti professionalità e strumentazioni coinvolte; La Grande Fabbrica delle Parole e una conservatrice raccontano i reperti e invitano i bambini a diventare “curatori per un giorno”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324000" y="157320"/>
            <a:ext cx="84247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ff0000"/>
                </a:solidFill>
                <a:latin typeface="Lato Black"/>
              </a:rPr>
              <a:t>passo 3:  il museo dei bambini  diventa realtà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179280" y="449280"/>
            <a:ext cx="608508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9520" indent="-201600">
              <a:lnSpc>
                <a:spcPct val="100000"/>
              </a:lnSpc>
              <a:buClr>
                <a:srgbClr val="000000"/>
              </a:buClr>
              <a:buFont typeface="Lato Medium"/>
              <a:buAutoNum type="arabicPeriod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lvl="1" marL="222120" algn="just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L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Grande Fabbrica delle Parole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prosegue i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lavoro nelle scuol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:  i bambini sono invitati a selezionare un loro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oggetto di affezione per costruire il loro museo ideale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222120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222120" algn="just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Architetti Senza Frontiere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lavora con i ragazzi de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Liceo Artistico Statale Caravaggio (zona via Padova)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per la progettazione e realizzazione de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Museo itinerant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.  Il Museo itinerante viene in parte realizzato anche in occasione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degli Adriano Community Days,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il festival del quartiere Adriano svoltosi il 23 e il 24 novembre, in un momento di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progettazione partecipat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e aperta alla cittadinanz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222120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0" name="Picture 2" descr="\\b1058777\UFF SVILUPPO MUSEI\ACCESSIBILITA\la grande fabbrica delle parole\FUORICASTELLO\OneDrive_2020-01-08\immagini-progettazione partecipata - Caravaggio\WhatsApp Image 2019-11-30 at 15.25.14 (1).jpeg"/>
          <p:cNvPicPr/>
          <p:nvPr/>
        </p:nvPicPr>
        <p:blipFill>
          <a:blip r:embed="rId1"/>
          <a:srcRect l="0" t="0" r="0" b="9411"/>
          <a:stretch/>
        </p:blipFill>
        <p:spPr>
          <a:xfrm>
            <a:off x="6691320" y="54000"/>
            <a:ext cx="2341440" cy="2825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\\b1058777\UFF SVILUPPO MUSEI\ACCESSIBILITA\la grande fabbrica delle parole\FUORICASTELLO\FOTO\esselunga\WhatsApp Image 2019-12-20 at 17.07.59.jpeg"/>
          <p:cNvPicPr/>
          <p:nvPr/>
        </p:nvPicPr>
        <p:blipFill>
          <a:blip r:embed="rId2"/>
          <a:srcRect l="0" t="0" r="20069" b="0"/>
          <a:stretch/>
        </p:blipFill>
        <p:spPr>
          <a:xfrm>
            <a:off x="1011240" y="3213000"/>
            <a:ext cx="3846600" cy="2710080"/>
          </a:xfrm>
          <a:prstGeom prst="rect">
            <a:avLst/>
          </a:prstGeom>
          <a:ln w="0">
            <a:noFill/>
          </a:ln>
        </p:spPr>
      </p:pic>
      <p:sp>
        <p:nvSpPr>
          <p:cNvPr id="92" name="CasellaDiTesto 4"/>
          <p:cNvSpPr/>
          <p:nvPr/>
        </p:nvSpPr>
        <p:spPr>
          <a:xfrm>
            <a:off x="4211640" y="3692520"/>
            <a:ext cx="52387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algn="just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I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Museo itinerant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, con riproduzioni degli oggetti dei bambini e loro didascalie e con loro frasi sul museo ideale è esposto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nel quartier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algn="just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- a 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Cascina Turro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, insieme ai reperti del scelti dai bambini, in occasione dell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mostra natalizi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con opere proveniente dalle collezioni del Castello Sforzesco (13 -18 dicembre 2020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algn="just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-su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piazzale esterno dell’Esselunga di Quartiere Adrian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(23 dicembre 2020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CasellaDiTesto 6"/>
          <p:cNvSpPr/>
          <p:nvPr/>
        </p:nvSpPr>
        <p:spPr>
          <a:xfrm>
            <a:off x="4857840" y="3114720"/>
            <a:ext cx="48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Lato Black"/>
              </a:rPr>
              <a:t>passo 4: il museo dei bambini esce nelle strad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6" descr="\\b1058777\UFF SVILUPPO MUSEI\ACCESSIBILITA\la grande fabbrica delle parole\FUORICASTELLO\FOTO\cascina turro\WhatsApp Image 2019-12-18 at 14.39.44 (2).jpeg"/>
          <p:cNvPicPr/>
          <p:nvPr/>
        </p:nvPicPr>
        <p:blipFill>
          <a:blip r:embed="rId1"/>
          <a:stretch/>
        </p:blipFill>
        <p:spPr>
          <a:xfrm>
            <a:off x="968400" y="439560"/>
            <a:ext cx="3890880" cy="5187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\\b1058777\UFF SVILUPPO MUSEI\ACCESSIBILITA\la grande fabbrica delle parole\FUORICASTELLO\FOTO\cascina turro\WhatsApp Image 2019-12-13 at 15.49.17.jpeg"/>
          <p:cNvPicPr/>
          <p:nvPr/>
        </p:nvPicPr>
        <p:blipFill>
          <a:blip r:embed="rId2"/>
          <a:stretch/>
        </p:blipFill>
        <p:spPr>
          <a:xfrm>
            <a:off x="5076720" y="576360"/>
            <a:ext cx="4159440" cy="2341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\\b1058777\UFF SVILUPPO MUSEI\ACCESSIBILITA\la grande fabbrica delle parole\FUORICASTELLO\FOTO\cascina turro\WhatsApp Image 2019-12-13 at 15.50.28.jpeg"/>
          <p:cNvPicPr/>
          <p:nvPr/>
        </p:nvPicPr>
        <p:blipFill>
          <a:blip r:embed="rId3"/>
          <a:stretch/>
        </p:blipFill>
        <p:spPr>
          <a:xfrm>
            <a:off x="5097600" y="3240000"/>
            <a:ext cx="4160880" cy="234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CasellaDiTesto 2"/>
          <p:cNvSpPr/>
          <p:nvPr/>
        </p:nvSpPr>
        <p:spPr>
          <a:xfrm>
            <a:off x="324000" y="431640"/>
            <a:ext cx="9216720" cy="53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Lato Black"/>
              </a:rPr>
              <a:t>#DAL QUARTIERE BARONA AL CASTELLO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Segoe UI"/>
              </a:rPr>
              <a:t>le bambine e i bambini fanno (s)cultur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Calibri"/>
              </a:rPr>
              <a:t>(2022-2023; 2023-2024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r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isposta al 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bando Cariplo "Alla Scoperta della Cultura – Avvicinare bambine e bambini ai luoghi della cultura e della comunità"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   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avviso esplorativ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di manifestazioni di interesse per associazioni e no-profit che volessero candidare proposte in partnership con il Comune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promosso da Area Valorizzazione Patrimonio Artistico e Sicurezz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 monitoraggi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del progetto a cura della medesima are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co-progettazion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del concept del progetto e delle sue fasi tra Castello Sforzesco e La Grande Fabbrica delle Parol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coinvolgimento di 174 bambini e bambine delle scuole primarie dell’Istituto Comprensivo Sant’Ambrogio, quartiere Baron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8" name="Google Shape;71;p15" descr=""/>
          <p:cNvPicPr/>
          <p:nvPr/>
        </p:nvPicPr>
        <p:blipFill>
          <a:blip r:embed="rId1"/>
          <a:stretch/>
        </p:blipFill>
        <p:spPr>
          <a:xfrm>
            <a:off x="1386000" y="5079960"/>
            <a:ext cx="2154240" cy="932040"/>
          </a:xfrm>
          <a:prstGeom prst="rect">
            <a:avLst/>
          </a:prstGeom>
          <a:ln w="0">
            <a:noFill/>
          </a:ln>
        </p:spPr>
      </p:pic>
      <p:pic>
        <p:nvPicPr>
          <p:cNvPr id="99" name="Immagine 1" descr=""/>
          <p:cNvPicPr/>
          <p:nvPr/>
        </p:nvPicPr>
        <p:blipFill>
          <a:blip r:embed="rId2"/>
          <a:stretch/>
        </p:blipFill>
        <p:spPr>
          <a:xfrm>
            <a:off x="4356000" y="5372280"/>
            <a:ext cx="1360440" cy="639720"/>
          </a:xfrm>
          <a:prstGeom prst="rect">
            <a:avLst/>
          </a:prstGeom>
          <a:ln w="0">
            <a:noFill/>
          </a:ln>
        </p:spPr>
      </p:pic>
      <p:pic>
        <p:nvPicPr>
          <p:cNvPr id="100" name="Google Shape;71;p15" descr=""/>
          <p:cNvPicPr/>
          <p:nvPr/>
        </p:nvPicPr>
        <p:blipFill>
          <a:blip r:embed="rId3"/>
          <a:stretch/>
        </p:blipFill>
        <p:spPr>
          <a:xfrm>
            <a:off x="1547640" y="5076720"/>
            <a:ext cx="2154240" cy="932040"/>
          </a:xfrm>
          <a:prstGeom prst="rect">
            <a:avLst/>
          </a:prstGeom>
          <a:ln w="0">
            <a:noFill/>
          </a:ln>
        </p:spPr>
      </p:pic>
      <p:pic>
        <p:nvPicPr>
          <p:cNvPr id="101" name="Immagine 2" descr=""/>
          <p:cNvPicPr/>
          <p:nvPr/>
        </p:nvPicPr>
        <p:blipFill>
          <a:blip r:embed="rId4"/>
          <a:stretch/>
        </p:blipFill>
        <p:spPr>
          <a:xfrm>
            <a:off x="6227640" y="5180040"/>
            <a:ext cx="25448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CasellaDiTesto 2"/>
          <p:cNvSpPr/>
          <p:nvPr/>
        </p:nvSpPr>
        <p:spPr>
          <a:xfrm>
            <a:off x="324000" y="431640"/>
            <a:ext cx="9216720" cy="29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Lato Black"/>
              </a:rPr>
              <a:t>#DAL QUARTIERE BARONA AL CASTELLO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Segoe UI"/>
              </a:rPr>
              <a:t>le bambine e i bambini fanno (s)cultur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Calibri"/>
              </a:rPr>
              <a:t>(2023-2024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AutoShape 2"/>
          <p:cNvSpPr/>
          <p:nvPr/>
        </p:nvSpPr>
        <p:spPr>
          <a:xfrm>
            <a:off x="1969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AutoShape 4"/>
          <p:cNvSpPr/>
          <p:nvPr/>
        </p:nvSpPr>
        <p:spPr>
          <a:xfrm>
            <a:off x="3492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5014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6" name="Immagine 7" descr=""/>
          <p:cNvPicPr/>
          <p:nvPr/>
        </p:nvPicPr>
        <p:blipFill>
          <a:blip r:embed="rId1"/>
          <a:stretch/>
        </p:blipFill>
        <p:spPr>
          <a:xfrm>
            <a:off x="2054160" y="2098800"/>
            <a:ext cx="5756400" cy="3241440"/>
          </a:xfrm>
          <a:prstGeom prst="rect">
            <a:avLst/>
          </a:prstGeom>
          <a:ln w="0">
            <a:noFill/>
          </a:ln>
        </p:spPr>
      </p:pic>
      <p:sp>
        <p:nvSpPr>
          <p:cNvPr id="107" name="Ovale 1"/>
          <p:cNvSpPr/>
          <p:nvPr/>
        </p:nvSpPr>
        <p:spPr>
          <a:xfrm>
            <a:off x="3419640" y="3168720"/>
            <a:ext cx="288720" cy="274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8" name="Immagine 2" descr=""/>
          <p:cNvPicPr/>
          <p:nvPr/>
        </p:nvPicPr>
        <p:blipFill>
          <a:blip r:embed="rId2"/>
          <a:stretch/>
        </p:blipFill>
        <p:spPr>
          <a:xfrm>
            <a:off x="3348000" y="2822400"/>
            <a:ext cx="298440" cy="285840"/>
          </a:xfrm>
          <a:prstGeom prst="rect">
            <a:avLst/>
          </a:prstGeom>
          <a:ln w="0">
            <a:noFill/>
          </a:ln>
        </p:spPr>
      </p:pic>
      <p:pic>
        <p:nvPicPr>
          <p:cNvPr id="109" name="Immagine 3" descr=""/>
          <p:cNvPicPr/>
          <p:nvPr/>
        </p:nvPicPr>
        <p:blipFill>
          <a:blip r:embed="rId3"/>
          <a:stretch/>
        </p:blipFill>
        <p:spPr>
          <a:xfrm>
            <a:off x="4390920" y="3108240"/>
            <a:ext cx="287280" cy="276480"/>
          </a:xfrm>
          <a:prstGeom prst="rect">
            <a:avLst/>
          </a:prstGeom>
          <a:ln w="0">
            <a:noFill/>
          </a:ln>
        </p:spPr>
      </p:pic>
      <p:pic>
        <p:nvPicPr>
          <p:cNvPr id="110" name="Immagine 5" descr=""/>
          <p:cNvPicPr/>
          <p:nvPr/>
        </p:nvPicPr>
        <p:blipFill>
          <a:blip r:embed="rId4"/>
          <a:stretch/>
        </p:blipFill>
        <p:spPr>
          <a:xfrm>
            <a:off x="2700360" y="3887640"/>
            <a:ext cx="3254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6T11:13:48Z</dcterms:created>
  <dc:creator>Fabio Famoso</dc:creator>
  <dc:description/>
  <dc:language>en-US</dc:language>
  <cp:lastModifiedBy>Giulia Valli</cp:lastModifiedBy>
  <cp:lastPrinted>2017-04-12T12:39:52Z</cp:lastPrinted>
  <dcterms:modified xsi:type="dcterms:W3CDTF">2024-03-21T15:34:08Z</dcterms:modified>
  <cp:revision>73</cp:revision>
  <dc:subject/>
  <dc:title>Presentazione standard di PowerPoint</dc:title>
</cp:coreProperties>
</file>